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AA2-CF10-444F-905F-C25A7A05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1D7-0C06-48CE-A2C2-72F05CF2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F26-DFBC-4047-87F3-7A87869A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64E-FF17-4C2C-9827-23DF8124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0A4-7B5E-4954-ABB4-E5F6ADAB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1FA-A6BB-4229-8B68-15A77A83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D38-CB9A-4AAC-96AE-5951B529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64F-1A44-42AC-8DB0-897B1812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3F5-11D1-4D12-874E-675D56B5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06A-18C2-4F77-AF47-5602777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EFF-C28E-44AC-AF4C-DC9F353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E9F-B09A-45D3-9797-6DD89236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6BC1-18B2-49DD-A473-E80B9D22A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5257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222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228600"/>
            <a:ext cx="518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Comidas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638680"/>
            <a:ext cx="4352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or: Jeannette Pellegrin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057400" cy="136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1600200" cy="147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1905120" cy="142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400800" y="1447920"/>
            <a:ext cx="2238480" cy="1488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2819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Hu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743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G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6386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Panqu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2971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Brin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276720" y="4191120"/>
            <a:ext cx="2057400" cy="115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52680" y="57150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3049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ara el desayuno me gusta comer..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705720" y="3886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3080" y="55627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bagel con queso cr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85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11480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80880" y="0"/>
            <a:ext cx="6467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ra el almuerzo me gusta comer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295280" y="388620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562720" y="3962520"/>
            <a:ext cx="2923920" cy="156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276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 Fru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9436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izza con qu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20574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opa de p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5791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ns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4920" y="0"/>
            <a:ext cx="8534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ara la Cena me gusta comer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352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2495520" cy="1866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038480" y="1752480"/>
            <a:ext cx="1332000" cy="2438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248520" y="1523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324480" y="3352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Hamburgu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4290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pan de 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191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r.Pe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58672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spaghetti con salsa de to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85144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guiso de carne de vac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2257560" cy="2028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42900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28600" y="76212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629400" y="1143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0"/>
            <a:ext cx="9144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Para el postre me gusta comer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429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pudin de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1722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galleta con chispas de ch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36576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pastel de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6248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magda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3429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mousse de li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9:18Z</dcterms:created>
  <dc:creator>pellegrinijea</dc:creator>
  <dc:description/>
  <dc:language>en-US</dc:language>
  <cp:lastModifiedBy>pellegrinijea</cp:lastModifiedBy>
  <dcterms:modified xsi:type="dcterms:W3CDTF">2012-04-05T14:02:57Z</dcterms:modified>
  <cp:revision>7</cp:revision>
  <dc:subject/>
  <dc:title>Slide 1</dc:title>
</cp:coreProperties>
</file>